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225A-015B-4E4A-9C73-699442E88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42EC-50A1-457A-A212-064E66D7C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3D3B-C2B9-4ADB-95D7-7433BA478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DBC4-C683-4F03-B17B-2D7AA623A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285F3-0C35-4AD4-9930-588071DF3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41E9A-14F3-488C-85F4-A497AA313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A34B7-F17B-4F01-9664-95D7903FC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DD9C3-5550-440C-A7FE-6C191B2A9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3EA91-FE48-486D-86A1-F92D08EE4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90801-9C8D-4FA3-99D6-D23EC4422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38D04-D301-4865-B614-2694AD097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5890-FDB9-4F04-9DA8-4D11D3DC0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65E21-6F81-44AF-8EC4-BFCAB7B55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B9CB0-B25D-43E1-83BA-B87119817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65CE4-1CE9-4E29-9648-13342ED5A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2ACE3-5F16-43E2-B600-B6443E5C3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9FFD0-DD14-4DC3-A294-1F7692BFB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6F5BE2-831F-4DF8-A4A8-3CF4B0507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9137F4-11CF-4944-A9C8-3B7159712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E21549-07D8-4B99-9CA8-93004A524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5F53BB-1777-4B54-8ABA-64E2319B3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575E77-418F-4A74-8124-CD79F7699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225F-DF73-469F-8071-8FB9D00FB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57D63D-4DB3-4427-84E5-4FF234EE2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8B9A41-CACA-45D8-9E12-2D8F8075C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869D6F-ABD0-49E0-83AD-26AD707B5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30CCE0-59F9-4866-9B56-7247EE18A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B475AA-DC6E-445A-A919-2EBCE824B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717972-07E8-4CD5-BFAE-2EE805C85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EA12D8-85B5-4D15-BAD0-0C6417E58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D53670-7152-495A-8C63-B527744ED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56A962-04FD-4C65-91F7-E61275C56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BE5033-94B0-4E3E-8695-595D32394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439A-E521-4627-BB38-4E6EF3949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5EBFDF-718B-4DA6-9FBE-D4AD121E4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55072B-DA50-4CBE-8E10-0BD7EBEF8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4F6A25-D9F3-4129-BD07-9D3B64A43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ECA354-E1E7-4F41-99EF-8A653B6B6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D07B80-392A-4B58-BBB4-328FF2628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6FD577-362F-4734-BCD7-06C13CE14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67317A-AE73-4A0C-ADE9-CD88114C8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AC4FAF-28FB-4C51-9D58-8CF7EE260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074C0B-C0B5-477D-A24A-77456A65A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515837-5160-45A0-A0A2-1E3FFAE98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E10F-E8B6-464A-8A60-603128A69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3BBA93-ED15-47F0-8235-393CEFCA8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DF1BDD-8F3B-48BC-888C-68CE9912A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AA6683-AA73-4A03-B1F5-813E16788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74AD2A-C3EE-4EC6-8C8C-2B0B3C539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74ED33-A9F1-4318-AC79-66985ED68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E4758F-3CF7-454D-9826-2AF79BB9E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363B1F-C20C-4198-A318-A11B2A5A4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325FDC-5F73-4434-9D66-F7C2418D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4E7B62-63EF-4402-925B-119661D9C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B6E8B0-5F56-470E-B635-001972B04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8800-FFA7-44EF-B8B0-178E0ED8A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E58A9E-22A4-4AC5-B3A2-6F8BBB7DC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618A43-FD4C-497C-8C85-3E92A0910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055337-6E7D-4F78-82B9-3320F2682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0A0E88-94C2-4F2F-891F-211FE3C87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147576-2711-4601-806A-783288948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F85C81-87B1-4E4E-8BC7-4815C9FCC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B3F323-0ED8-4E65-800A-E5C3D77C2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847CC6-D9BF-4537-8CDC-C24370919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B6716E-BB98-441B-8347-34AE58092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FA84ED-6F5E-4076-8E68-E6EEA1C23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F870-DE8D-4213-84CB-A7A2F81C5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4B022E-244D-42E5-ACE7-91EBA92E9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785206-24AD-42C7-9408-A69C0A1FA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F95FF8-4EBC-43F9-A91C-52CD4D76D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546A04-75DC-4FA6-9CAF-FE723FBF8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F0D556-377F-4347-BACC-90A04590B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9379DE-1027-4EFE-B11E-D4F770DFB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262072-295A-4CBB-8815-5342B2125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ABF1AD-4516-4E76-BED6-5AE3305C0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FE356B-DAFB-426C-8194-FD16FC64B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AE033E-AE1A-431F-BC90-0B9B9BF02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5F0A-41AB-4BC4-85A1-6410C2CF9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842070-826B-4A99-A34B-7CF6D1C2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6BADFA-BB1A-48F1-A09A-AD468BEF8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401E64-B45D-4DA2-949D-64A28FD59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6E64D6-E725-486C-83FD-2802AD09D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0A87B6-113C-422C-81AC-735969509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9DBBE2-0DC9-4EE5-9723-620AD3DEB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8A05AC-58DE-4ACE-8C2B-E63822C8B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8FB675-51C9-4230-9253-FB4A567BA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9CFAA3-9D8F-4018-8DF2-81AC211C4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B22BEB-2824-4A2E-A265-1A86A3F42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8289-63C1-43B6-A4C3-21C2A6F5D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824FD0-98F7-41EB-A70A-428CD0F33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1926F5-19E5-47C5-83EF-F31960296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DF393C-9A2B-4FC3-8BCC-D18DE0EDE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1CA6ED-4B1C-455D-A530-5EC064786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4038BF-4A02-483E-8EC0-93045D1DC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CC01A6-BA49-495B-890B-2599ADCB5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092086-81BE-45AD-AA4B-22BD7FF45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DE9BE-A890-4281-9F58-433C07273725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51123-B046-4997-AB98-24137A1FAFD1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2E023-1B43-4E91-BE8D-44C8C30090CF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8A5B0-5717-4A61-A956-8E3D199F6836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54BB2-67F9-41D1-9B1D-032B7C301AF3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6DE4B-40B6-492D-AB56-0E6FF137E3B7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7F449-D303-488B-825E-7E7087E6F7E2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39018-3250-4210-B343-ECED3E4DBBB7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HAPTER 14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Assessment, Standards, and Accountability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me up with 3 informal and formal assessments for the following topics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1. Parts of a cel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2. Locations of 50 stat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3. Difference in opinion and fac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Formative or Summative.....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est on Friday after covering a chapter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nversation with students after a lab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Quiz on spelling words after 10 minutes of introducing them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Next Week’s Test on Ch11 and 14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Vocab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cenarios for assessmen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lection of curriculum (scenarios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ssessmen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hat is assessment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he process teachers use to gather information and make decisions about students’ learning and development.”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SSESSMENT DRIVES INSTRUCTION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ypes of assessment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tandardize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Given to large samples of students (sometimes even nationally) under uniform conditions, scored and reported under uniform conditions as well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ccountability measures, both for teachers and students, rely on standardized testing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eacher-made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reated by teachers to measure and promote student learning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nformal assessments- not for grades, observations, quick writes, non-graded quizzes, “anecdotal notes”, practice tests, informal assessments about personal, social, and moral development as well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rmal assessments- graded, tests, papers, presentations, etc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612720" y="1600200"/>
          <a:ext cx="8153280" cy="2595600"/>
        </p:xfrm>
        <a:graphic>
          <a:graphicData uri="http://schemas.openxmlformats.org/drawingml/2006/table">
            <a:tbl>
              <a:tblPr/>
              <a:tblGrid>
                <a:gridCol w="4076640"/>
                <a:gridCol w="40766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Paper- pencil assess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Performance assess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ortfolio assessments- collection of student work, especially beneficial in writing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aution: have student select pieces and explain wh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Formative  VS summative assessments</a:t>
            </a:r>
            <a:br>
              <a:rPr sz="4000"/>
            </a:b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rmative assessments: the informal assessments with the primary purpose of providing students with feedback to increase motivation and achievement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ummative assessments: assessing AFTER instruction and used for grades. Demonstrates whether or not students mastered the content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Misconceptions about assessment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1. The central role is to determine student’s grades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2. Assessment occurs after a unit of study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3. Assessment process focuses exclusively on students’ understanding and skill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Using Assessments to  Promote Learning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Remember, the primary purpose of assessment is to promote learning and advance development of students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To promote learning and development, assessments should…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- be aligned with standards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- measure both student knowledge and thinking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- include detailed feedback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- avoid social comparisons   (p.423)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1T03:45:19Z</dcterms:created>
  <dc:creator>Amy B Bowden</dc:creator>
  <dc:description/>
  <dc:language>en-US</dc:language>
  <cp:lastModifiedBy>Chris Brown</cp:lastModifiedBy>
  <dcterms:modified xsi:type="dcterms:W3CDTF">2011-09-28T20:59:00Z</dcterms:modified>
  <cp:revision>4</cp:revision>
  <dc:subject/>
  <dc:title>Chapter 14</dc:title>
</cp:coreProperties>
</file>